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3.gif" ContentType="image/gif"/>
  <Override PartName="/ppt/media/image23.gif" ContentType="image/gif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22.gif" ContentType="image/gif"/>
  <Override PartName="/ppt/media/image15.png" ContentType="image/png"/>
  <Override PartName="/ppt/media/image16.jpeg" ContentType="image/jpeg"/>
  <Override PartName="/ppt/media/image39.gif" ContentType="image/gif"/>
  <Override PartName="/ppt/media/image17.png" ContentType="image/png"/>
  <Override PartName="/ppt/media/image14.gif" ContentType="image/gif"/>
  <Override PartName="/ppt/media/image31.jpeg" ContentType="image/jpeg"/>
  <Override PartName="/ppt/media/image1.png" ContentType="image/png"/>
  <Override PartName="/ppt/media/image30.png" ContentType="image/png"/>
  <Override PartName="/ppt/media/image25.gif" ContentType="image/gif"/>
  <Override PartName="/ppt/media/image32.gif" ContentType="image/gif"/>
  <Override PartName="/ppt/media/image33.png" ContentType="image/png"/>
  <Override PartName="/ppt/media/image5.gif" ContentType="image/gif"/>
  <Override PartName="/ppt/media/image38.gif" ContentType="image/gif"/>
  <Override PartName="/ppt/media/image41.gif" ContentType="image/gif"/>
  <Override PartName="/ppt/media/image34.png" ContentType="image/png"/>
  <Override PartName="/ppt/media/image44.png" ContentType="image/png"/>
  <Override PartName="/ppt/media/image40.jpeg" ContentType="image/jpeg"/>
  <Override PartName="/ppt/media/image35.png" ContentType="image/png"/>
  <Override PartName="/ppt/media/image42.gif" ContentType="image/gif"/>
  <Override PartName="/ppt/media/image46.png" ContentType="image/png"/>
  <Override PartName="/ppt/media/image43.gif" ContentType="image/gif"/>
  <Override PartName="/ppt/media/image9.jpeg" ContentType="image/jpeg"/>
  <Override PartName="/ppt/media/image11.png" ContentType="image/png"/>
  <Override PartName="/ppt/media/image47.png" ContentType="image/png"/>
  <Override PartName="/ppt/media/image13.png" ContentType="image/png"/>
  <Override PartName="/ppt/media/image10.gif" ContentType="image/gif"/>
  <Override PartName="/ppt/media/image8.jpeg" ContentType="image/jpeg"/>
  <Override PartName="/ppt/media/image45.gif" ContentType="image/gif"/>
  <Override PartName="/ppt/media/image12.gif" ContentType="image/gif"/>
  <Override PartName="/ppt/media/image24.jpeg" ContentType="image/jpeg"/>
  <Override PartName="/ppt/media/image29.jpeg" ContentType="image/jpeg"/>
  <Override PartName="/ppt/media/image7.gif" ContentType="image/gif"/>
  <Override PartName="/ppt/media/image37.gif" ContentType="image/gif"/>
  <Override PartName="/ppt/media/image6.gif" ContentType="image/gif"/>
  <Override PartName="/ppt/media/image36.gif" ContentType="image/gif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0CA-2F66-4193-A475-6F8F320C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600-B639-4107-B740-615037BD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AA45-E87D-4780-921D-4806B8B4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5FD-5718-453F-8442-59CDE1ED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C2C1-BA11-4F0B-9D6F-745656FD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F8F9-0B28-47A4-9EC5-21ABB7DF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50A2-D8B2-4129-AF5E-90ACD582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BC37-AEED-4B0C-BB91-48FC21B4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9A58-6968-430A-B99B-083626D1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CEBF-1580-41E7-A9C0-73E0F684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AC97-27B5-4E5D-8D96-FC567922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084-B17A-47ED-A521-64FF5FF7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D2A5-C227-40DE-9B73-D9061DA6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ADC4-FB8E-49C6-9A8B-AFEAD558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10E5-6A97-4013-B7A9-B0B33235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32EA-C60A-422B-8B4D-19D6B34F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AA51-05ED-47A2-9F6E-70BEE71B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5160-3160-4C7D-B01D-428D7701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218-7871-4145-8D73-EA074687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2DF-B0EA-457B-895B-8C838D3A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24C-00DE-4550-9FF0-68727599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22AE-DE1F-405A-978E-E6B1BCA1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47E3-3A2D-403D-AA80-E02C87A0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F132-75CE-4A5F-AFC6-8AFA9151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CB7C-5CF3-4673-8E9F-548C153E4A62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D945-B2E6-4AA8-9002-9C6D59642D98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hyperlink" Target="http://search.aol.ca/redir?urn=http://z.about.com/d/geology/1/0/U/A/1/gold500.jpg&amp;rank=%20&amp;source=googleImage&amp;searchType=IS&amp;partner=Google&amp;query=gold%20nugget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32.gif"/><Relationship Id="rId6" Type="http://schemas.openxmlformats.org/officeDocument/2006/relationships/image" Target="../media/image33.png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4.png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5.png"/><Relationship Id="rId7" Type="http://schemas.openxmlformats.org/officeDocument/2006/relationships/image" Target="../media/image32.gif"/><Relationship Id="rId8" Type="http://schemas.openxmlformats.org/officeDocument/2006/relationships/image" Target="../media/image32.gif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earch.aol.ca/redir?urn=http://z.about.com/d/geology/1/0/U/A/1/gold500.jpg&amp;rank=%20&amp;source=googleImage&amp;searchType=IS&amp;partner=Google&amp;query=gold%20nugget" TargetMode="External"/><Relationship Id="rId3" Type="http://schemas.openxmlformats.org/officeDocument/2006/relationships/image" Target="../media/image31.jpeg"/><Relationship Id="rId4" Type="http://schemas.openxmlformats.org/officeDocument/2006/relationships/image" Target="../media/image36.gif"/><Relationship Id="rId5" Type="http://schemas.openxmlformats.org/officeDocument/2006/relationships/image" Target="../media/image10.gi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Image:Convection.gif" TargetMode="External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gif"/><Relationship Id="rId3" Type="http://schemas.openxmlformats.org/officeDocument/2006/relationships/image" Target="../media/image10.gif"/><Relationship Id="rId4" Type="http://schemas.openxmlformats.org/officeDocument/2006/relationships/image" Target="../media/image37.gif"/><Relationship Id="rId5" Type="http://schemas.openxmlformats.org/officeDocument/2006/relationships/hyperlink" Target="http://en.wikipedia.org/wiki/Image:Convection.gif" TargetMode="External"/><Relationship Id="rId6" Type="http://schemas.openxmlformats.org/officeDocument/2006/relationships/image" Target="../media/image38.gif"/><Relationship Id="rId7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Metrics &amp; Density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105520" y="3124080"/>
            <a:ext cx="4038480" cy="2979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the Meter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6553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er is used to measure ____ and dist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048120" y="40006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086600" y="2514600"/>
            <a:ext cx="2057400" cy="3581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238880" y="304812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f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066680" y="8380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Gram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gram is used to measure Ma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ss is a measure how much stuff (or matter) the object is made of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 find mass by weighing the ob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352680" y="4267080"/>
            <a:ext cx="2895840" cy="241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the Gram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6476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am is used to measure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s a measure how much _____ (or matter) the object is made of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find mass by weighing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276720" y="4267080"/>
            <a:ext cx="2895480" cy="241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934320" y="3200400"/>
            <a:ext cx="1981080" cy="350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86600" y="373392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f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990720" y="990720"/>
            <a:ext cx="7772400" cy="42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Lit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liter is used to measure Volu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lume is how much space an object uses up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15000" y="5791320"/>
            <a:ext cx="2133720" cy="60948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9bc2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3048120"/>
            <a:ext cx="1143000" cy="2971800"/>
          </a:xfrm>
          <a:prstGeom prst="can">
            <a:avLst>
              <a:gd name="adj" fmla="val 1111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72200" y="4343400"/>
            <a:ext cx="1143000" cy="1676520"/>
          </a:xfrm>
          <a:prstGeom prst="can">
            <a:avLst>
              <a:gd name="adj" fmla="val 19791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172200" y="3505320"/>
            <a:ext cx="762120" cy="2374920"/>
            <a:chOff x="6172200" y="3505320"/>
            <a:chExt cx="762120" cy="2374920"/>
          </a:xfrm>
        </p:grpSpPr>
        <p:sp>
          <p:nvSpPr>
            <p:cNvPr id="263" name=""/>
            <p:cNvSpPr/>
            <p:nvPr/>
          </p:nvSpPr>
          <p:spPr>
            <a:xfrm>
              <a:off x="6172200" y="521028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72200" y="469260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72200" y="417528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72200" y="365760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72200" y="36576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72200" y="41752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72200" y="46926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72200" y="52102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72200" y="57276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72200" y="3657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34320" y="3657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72200" y="41752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4320" y="41752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2200" y="4692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34320" y="4692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72200" y="52102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34320" y="52102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72200" y="505764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72200" y="454032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2200" y="402264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72200" y="350532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2200" y="35053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72200" y="40226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72200" y="45403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72200" y="50576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72200" y="55753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72200" y="35053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5053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72200" y="40226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34320" y="40226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72200" y="45403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34320" y="45403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72200" y="50576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34320" y="50576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72200" y="536256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72200" y="484488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72200" y="432756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72200" y="380988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3809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72200" y="43275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72200" y="4844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72200" y="53625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72200" y="58802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72200" y="38098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34320" y="38098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72200" y="432756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4320" y="432756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72200" y="48448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34320" y="48448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536256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34320" y="536256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4267080" y="4191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m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a Liter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er is used to measure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is how much _____ an object uses up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77120" y="3048120"/>
            <a:ext cx="2133360" cy="3657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29400" y="365760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ighing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uff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886200" y="6248520"/>
            <a:ext cx="2057400" cy="60948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9bc2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43400" y="3505320"/>
            <a:ext cx="1143000" cy="2971800"/>
          </a:xfrm>
          <a:prstGeom prst="can">
            <a:avLst>
              <a:gd name="adj" fmla="val 1111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43400" y="4800600"/>
            <a:ext cx="1143000" cy="1676520"/>
          </a:xfrm>
          <a:prstGeom prst="can">
            <a:avLst>
              <a:gd name="adj" fmla="val 19791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43400" y="3962520"/>
            <a:ext cx="762120" cy="2374920"/>
            <a:chOff x="4343400" y="3962520"/>
            <a:chExt cx="762120" cy="2374920"/>
          </a:xfrm>
        </p:grpSpPr>
        <p:sp>
          <p:nvSpPr>
            <p:cNvPr id="324" name=""/>
            <p:cNvSpPr/>
            <p:nvPr/>
          </p:nvSpPr>
          <p:spPr>
            <a:xfrm>
              <a:off x="4343400" y="566748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43400" y="514980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43400" y="463248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43400" y="411480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43400" y="41148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43400" y="46324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51498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43400" y="56674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43400" y="61848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43400" y="41148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41148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3400" y="46324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46324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43400" y="51498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05520" y="51498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43400" y="56674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05520" y="56674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551484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3400" y="499752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43400" y="447984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3400" y="396252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43400" y="39625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43400" y="44798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43400" y="49975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43400" y="55148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43400" y="60325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43400" y="39625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05520" y="39625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43400" y="44798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05520" y="44798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43400" y="49975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05520" y="49975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43400" y="55148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05520" y="55148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43400" y="581976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43400" y="530208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43400" y="478476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43400" y="426708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43400" y="42670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43400" y="47847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43400" y="53020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43400" y="58197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43400" y="63374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43400" y="42670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05520" y="42670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43400" y="478476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05520" y="478476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43400" y="53020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05520" y="53020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43400" y="581976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05520" y="581976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438280" y="46483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m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143000" y="228600"/>
          <a:ext cx="3825720" cy="6496200"/>
        </p:xfrm>
        <a:graphic>
          <a:graphicData uri="http://schemas.openxmlformats.org/drawingml/2006/table">
            <a:tbl>
              <a:tblPr/>
              <a:tblGrid>
                <a:gridCol w="2054160"/>
                <a:gridCol w="177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Rockwell Extra Bold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Rockwell Extra Bold"/>
                          <a:ea typeface="Times New Roman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Kilo-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000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Hecto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00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Decka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0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Meter, Gram, Lite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Deci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/10 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or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0.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Centi-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/100 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or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0.0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Milli-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/1000 </a:t>
                      </a:r>
                      <a:r>
                        <a:rPr b="0" i="1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or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0.00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685800" y="598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10080" y="990720"/>
            <a:ext cx="3276720" cy="3200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tic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is 10 tim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r or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 times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" dur="10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 Black"/>
              </a:rPr>
              <a:t>Metric Step Ladder</a:t>
            </a:r>
            <a:endParaRPr b="0" lang="en-US" sz="2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ngth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Your house is 8 meters tall, how many millimeters tall is it?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-304920" y="152388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213372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238880" y="35812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,00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 rot="1608600">
            <a:off x="5257440" y="3047760"/>
            <a:ext cx="1828800" cy="5554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04920" y="3657600"/>
            <a:ext cx="28191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 meter = 1000 mill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-228600" y="64008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19720" y="640080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09880" y="586728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0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52880" y="5867280"/>
            <a:ext cx="13716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495680" y="65530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0" y="6553080"/>
            <a:ext cx="120816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715000" y="65530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6019920"/>
            <a:ext cx="266688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imeters(mm) tal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3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-228600" y="609588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ngth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Your bike is 2 meters in length, how many centimeters long is it?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48520" y="31240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0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 rot="1649400">
            <a:off x="5079600" y="2925720"/>
            <a:ext cx="1143000" cy="5209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04920" y="3657600"/>
            <a:ext cx="28954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 meter = 100 cent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419720" y="640080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586728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594360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495680" y="65530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6019920"/>
            <a:ext cx="350532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imeters(cm) lo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6553080"/>
            <a:ext cx="919440" cy="216000"/>
          </a:xfrm>
          <a:custGeom>
            <a:avLst/>
            <a:gdLst/>
            <a:ahLst/>
            <a:rect l="l" t="t" r="r" b="b"/>
            <a:pathLst>
              <a:path w="579" h="136">
                <a:moveTo>
                  <a:pt x="0" y="62"/>
                </a:moveTo>
                <a:cubicBezTo>
                  <a:pt x="7" y="67"/>
                  <a:pt x="14" y="70"/>
                  <a:pt x="20" y="76"/>
                </a:cubicBezTo>
                <a:cubicBezTo>
                  <a:pt x="26" y="82"/>
                  <a:pt x="27" y="92"/>
                  <a:pt x="34" y="96"/>
                </a:cubicBezTo>
                <a:cubicBezTo>
                  <a:pt x="46" y="104"/>
                  <a:pt x="75" y="110"/>
                  <a:pt x="75" y="110"/>
                </a:cubicBezTo>
                <a:cubicBezTo>
                  <a:pt x="180" y="105"/>
                  <a:pt x="228" y="132"/>
                  <a:pt x="260" y="42"/>
                </a:cubicBezTo>
                <a:cubicBezTo>
                  <a:pt x="264" y="48"/>
                  <a:pt x="304" y="94"/>
                  <a:pt x="308" y="96"/>
                </a:cubicBezTo>
                <a:cubicBezTo>
                  <a:pt x="330" y="110"/>
                  <a:pt x="370" y="117"/>
                  <a:pt x="397" y="124"/>
                </a:cubicBezTo>
                <a:cubicBezTo>
                  <a:pt x="437" y="121"/>
                  <a:pt x="493" y="136"/>
                  <a:pt x="514" y="103"/>
                </a:cubicBezTo>
                <a:cubicBezTo>
                  <a:pt x="579" y="0"/>
                  <a:pt x="508" y="85"/>
                  <a:pt x="534" y="5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334120" y="655308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ss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A paperclip weighs 7 grams, how many milligrams does it weigh?</a:t>
            </a:r>
            <a:endParaRPr b="0" lang="en-US" sz="2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315200" y="35812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,00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 rot="1649400">
            <a:off x="5189040" y="2935080"/>
            <a:ext cx="1967040" cy="5889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-228600" y="6248520"/>
            <a:ext cx="96012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419720" y="617220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09880" y="563868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0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52880" y="5638680"/>
            <a:ext cx="13716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495680" y="6324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0" y="6324480"/>
            <a:ext cx="120816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715000" y="6324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477120" y="5791320"/>
            <a:ext cx="213336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gram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opic:  Metric System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bjectives: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Day 1 of 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know how the metric system is based on powers of 1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understand the units of length, volume, and ma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learn how to convert using the metric system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Unit:  Metrics and Densit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-152280" y="61722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Volum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For breakfast, you drank 350 milliliters of orange juice, how many centiliters did you drink?</a:t>
            </a:r>
            <a:endParaRPr b="0" lang="en-US" sz="2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3124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35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315200" y="35812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35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800600" y="624852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571500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95880" y="579132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410080" y="640080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5791320" y="640080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6477120"/>
            <a:ext cx="380880" cy="152280"/>
          </a:xfrm>
          <a:custGeom>
            <a:avLst/>
            <a:gdLst/>
            <a:ahLst/>
            <a:rect l="l" t="t" r="r" b="b"/>
            <a:pathLst>
              <a:path w="335" h="112">
                <a:moveTo>
                  <a:pt x="335" y="24"/>
                </a:moveTo>
                <a:cubicBezTo>
                  <a:pt x="315" y="37"/>
                  <a:pt x="290" y="60"/>
                  <a:pt x="268" y="67"/>
                </a:cubicBezTo>
                <a:cubicBezTo>
                  <a:pt x="238" y="112"/>
                  <a:pt x="177" y="88"/>
                  <a:pt x="128" y="85"/>
                </a:cubicBezTo>
                <a:cubicBezTo>
                  <a:pt x="98" y="81"/>
                  <a:pt x="72" y="76"/>
                  <a:pt x="43" y="67"/>
                </a:cubicBezTo>
                <a:cubicBezTo>
                  <a:pt x="27" y="50"/>
                  <a:pt x="28" y="38"/>
                  <a:pt x="7" y="24"/>
                </a:cubicBezTo>
                <a:cubicBezTo>
                  <a:pt x="0" y="4"/>
                  <a:pt x="1" y="12"/>
                  <a:pt x="1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72200" y="5867280"/>
            <a:ext cx="28195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iliters(cL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ngth:</a:t>
            </a:r>
            <a:br>
              <a:rPr sz="24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You drove 6500 meters on your way to school this morning, how many kilometers did you drive?</a:t>
            </a:r>
            <a:r>
              <a:rPr b="0" lang="en-US" sz="2400" spc="-1" strike="noStrike">
                <a:solidFill>
                  <a:srgbClr val="dfd293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-304920" y="1219320"/>
            <a:ext cx="9829800" cy="50292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650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38080" y="8380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6.5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 rot="12321000">
            <a:off x="1828800" y="1447200"/>
            <a:ext cx="1773360" cy="55404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304920" y="3657600"/>
            <a:ext cx="28191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 kilometer = 1000 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-304920" y="61722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724280" y="601992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5486400"/>
            <a:ext cx="2666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5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91520" y="548640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800600" y="617220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6172200"/>
            <a:ext cx="120780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6019920" y="617220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56386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29400" y="5715000"/>
            <a:ext cx="23623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lometers(km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ss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Your backpack weighs 7 kilograms, how many grams does it weigh?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00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8080" y="8380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 rot="1504200">
            <a:off x="2382480" y="1595520"/>
            <a:ext cx="1219320" cy="5540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-228600" y="61722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95680" y="624852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86200" y="5715000"/>
            <a:ext cx="2666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0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29200" y="571500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572000" y="640080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6400800"/>
            <a:ext cx="120780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791320" y="640080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477120" y="5791320"/>
            <a:ext cx="2057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ms(g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3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4191120"/>
            <a:ext cx="8305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Use the metric conversion ladd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100 centimeters (cm) = ____ meters (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1 kilometer (km) = ____ meters (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685800" y="-34920"/>
            <a:ext cx="807732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62120" y="42667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000 milliLiters (mL) = _________ Liters (L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400 centigrams (cg) = __________ grams (g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458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61760" y="4648320"/>
            <a:ext cx="83818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4.6 kilometers (km) = ___________ meters (m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2 centimeters (cm) = ___________ millimeters (mm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-228600" y="0"/>
            <a:ext cx="960120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ummariz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ric system is a measurement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based on units or powers of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er measures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measures ma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measures 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 km = _______met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000 mm = ______met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cm = 1 me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010280" y="2590920"/>
            <a:ext cx="175284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162920" y="2743200"/>
            <a:ext cx="1411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opic: 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Objectives: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day 2 of 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learn how to calculate volume by water displace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understand the concept of density gi en mass and volum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066680" y="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Unit:  Metrics and Densit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Quickwrit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1-2 sentences answer one of the questions below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en you get into a hot tub, what happens to the water level???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do you think is more dense, lead or wood???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Quickwrit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1-2 sentences answer one of the questions below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s the yard part of the Metric System or English (standards) System???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you were driving in Mexico or Canada, would you use miles per hour (MPH) or Kilometers per hour??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Quickwrit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1-2 sentences answer one of the questions below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 the yard part of the metric system or English(standards) system???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you were driving in Mexico or Canada, would you use miles per hour (MPH) or Kilometers per hour??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 use Volume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en we want to find the capacity of something (how much liquid is insid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Volume is measured is lit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6248520" y="3809880"/>
            <a:ext cx="2614320" cy="29718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3124080" cy="2959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2 ways we find volum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71240" y="1295280"/>
            <a:ext cx="5181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 simple shapes, like cubes and spheres, we can calculate them through basic ma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 example, to find the volume of a cube we measure the (Length x Width x Height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ut, we'll let math class teach you tha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6867360" y="3429000"/>
            <a:ext cx="1789200" cy="205740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6400800" y="5537160"/>
            <a:ext cx="2209680" cy="13208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6553080" y="1295280"/>
            <a:ext cx="2210040" cy="20988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 flipH="1">
            <a:off x="7391160" y="304812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2133720"/>
            <a:ext cx="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7009920" y="2819160"/>
            <a:ext cx="30492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2 ways we find volum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something has an irregular shape, how do we find the volume of it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other way we find volume is by displace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3924360" cy="421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 by Displace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t's say we want to find the volume of a roc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ou can't exactly take out a ruler and measure it like you could a cube or triang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3924360" cy="421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 by Displace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ere's how you do it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drop the rock into wa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bviously, the water level will ri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ut, by how much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amount it rises equals the volume of the r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4076640" cy="436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 by Displace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4267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Submerging the object will cause the water level to ris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amount it rises, equals the volume of the rock in Lit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4076640" cy="436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Volume by Displacement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276360" y="15998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hod used to find volume of an ____shaped obj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_the object, will cause the water level to ri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amount it rises, equals the volume of the rock in_____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3294000" cy="35244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1066680" y="12952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6934320" y="2286000"/>
            <a:ext cx="2057400" cy="32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86600" y="243828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(s)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Mas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en we mass something, we measure how much stuff (or matter) the object is made of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We find mass by weighing the ob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is measured in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ra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1752480" cy="1460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Mas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has more mass? You or m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other words, who is made up of more stuff? You or m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has more mass? The earth or m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Metric System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measurement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yste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based on units or powers of 1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Mete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easures length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Gra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easures ma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iter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sures volum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43600" y="1940040"/>
            <a:ext cx="1905120" cy="1170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019920" y="2895480"/>
            <a:ext cx="1971720" cy="1644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248520" y="4495680"/>
            <a:ext cx="91440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how tightly matter is compact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s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n object to it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density expression,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n object or substance is written in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era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it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omina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D    =   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mass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 =  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  or  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=   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g/cm</a:t>
            </a:r>
            <a:r>
              <a:rPr b="1" lang="en-US" sz="2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      volume        mL           cm</a:t>
            </a: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Note:  1 mL = 1 cm</a:t>
            </a:r>
            <a:r>
              <a:rPr b="0" i="1" lang="en-US" sz="24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p:transition spd="slow"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1" dur="20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5" dur="10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how tightly matter is compact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ts imagine we have 2 cubes the same siz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owever, now let us imagine that one cube is made of lead, and the other is made of Foa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y both have the same size but which one is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re dense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2209680" y="4648320"/>
            <a:ext cx="4953240" cy="20415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0" y="3962520"/>
            <a:ext cx="2133720" cy="761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Lea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 rot="2692200">
            <a:off x="1066680" y="4952520"/>
            <a:ext cx="1371600" cy="5144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7010280" y="3962520"/>
            <a:ext cx="2133720" cy="761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Foa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 rot="18855000">
            <a:off x="6786360" y="5024160"/>
            <a:ext cx="1447920" cy="54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3048120"/>
            <a:ext cx="2133720" cy="761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Lea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lead Cube is!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ut why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ell, it all has to do with how much stuff is packed into the same amount of space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2133720" y="4648320"/>
            <a:ext cx="4952880" cy="204156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 rot="2692200">
            <a:off x="1066680" y="4114440"/>
            <a:ext cx="1371600" cy="5144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7010280" y="2971800"/>
            <a:ext cx="2133720" cy="762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Foa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4"/>
          <a:stretch/>
        </p:blipFill>
        <p:spPr>
          <a:xfrm rot="18855000">
            <a:off x="6786360" y="4033440"/>
            <a:ext cx="1447920" cy="54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t's look at these fish which are the same siz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n though they are the same size they all have different densit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y all have the same 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ut, each fish has a different mas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4419360" cy="295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038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ach fish has a different mass, therefore each has a different weigh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reason has to do with how much stuff (matter) is packed into the same amount of space or 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19360" cy="29559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 rot="16200000">
            <a:off x="4144680" y="3779640"/>
            <a:ext cx="1905120" cy="7462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3962520" y="5181480"/>
            <a:ext cx="236196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he lead fish has th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ame volume, but, it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ntains more mat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nd therefore weigh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or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781680" y="5257800"/>
            <a:ext cx="236232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he wood fish has th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ame volume, but, it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ntains less mat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nd therefore weigh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es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4"/>
          <a:stretch/>
        </p:blipFill>
        <p:spPr>
          <a:xfrm rot="16200000">
            <a:off x="7269120" y="3855600"/>
            <a:ext cx="1904760" cy="74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how tightly matter is compacte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ompares the ____of an object to its _____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ll that mass is measured in ____ and volume is measured in ______ therefore the units of density are _____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D =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mass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=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fd293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g/cm</a:t>
            </a:r>
            <a:r>
              <a:rPr b="1" lang="en-US" sz="2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volume     mL       cm</a:t>
            </a: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Note:  1 mL = 1 cm</a:t>
            </a:r>
            <a:r>
              <a:rPr b="0" i="1" lang="en-US" sz="24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 Black"/>
              </a:rPr>
              <a:t>What is Density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6934320" y="2057400"/>
            <a:ext cx="2057400" cy="350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086600" y="243828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/m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7" dur="20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1" dur="10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ater and 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6629400" y="1219320"/>
            <a:ext cx="2514600" cy="445752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990720" y="1447920"/>
            <a:ext cx="5715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f you had a cube, and each side was 1 cm, what would it’s volume be?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ngth x Width  x Heigh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w let’s imagine this cube is emp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ow much water would it take to fill it up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876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x 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x 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 1</a:t>
            </a: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1" lang="en-US" sz="35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endParaRPr b="0" lang="en-US" sz="35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s it turns out, it takes 1 milliliter occupies 1 cubic centimeter or cm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other words, 1mL = 1 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nice, because it makes the density of water is equal to 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7924680" y="3657600"/>
            <a:ext cx="106704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7010280" y="365760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010280" y="25905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ater and 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662640" cy="41004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129528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447920" y="1828800"/>
            <a:ext cx="37335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ter has a density of 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an object sinks, it has a density greater than 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an object floats, it has a density less than 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What is the Density of Water?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77" name=""/>
          <p:cNvSpPr/>
          <p:nvPr/>
        </p:nvSpPr>
        <p:spPr>
          <a:xfrm>
            <a:off x="129528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38080" y="1752480"/>
            <a:ext cx="5639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ter has a density of___ g/m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an object____, it has a density greater than 1and If an object_____, it has a density less than 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6934320" y="2286000"/>
            <a:ext cx="2057400" cy="32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086600" y="243828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Practice: 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 object weighs 10 grams.  It has a volume of 5 mL.  What is it’s density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981080" y="3581280"/>
            <a:ext cx="7010640" cy="2438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= 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  mass (g)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=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  10g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= 2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/mL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olume (mL)    5m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       </a:t>
            </a: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Meter Stick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 rot="5095200">
            <a:off x="1825200" y="4651200"/>
            <a:ext cx="311040" cy="609480"/>
          </a:xfrm>
          <a:custGeom>
            <a:avLst/>
            <a:gdLst>
              <a:gd name="textAreaLeft" fmla="*/ 0 w 311040"/>
              <a:gd name="textAreaRight" fmla="*/ 112320 w 3110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089"/>
                </a:lnTo>
                <a:cubicBezTo>
                  <a:pt x="10800" y="10989"/>
                  <a:pt x="16200" y="11889"/>
                  <a:pt x="21600" y="11889"/>
                </a:cubicBezTo>
                <a:cubicBezTo>
                  <a:pt x="16200" y="11889"/>
                  <a:pt x="10800" y="12789"/>
                  <a:pt x="10800" y="1368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257800"/>
            <a:ext cx="28195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37-38 = 1 centi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th 10 millimet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sid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145000">
            <a:off x="5333400" y="2362320"/>
            <a:ext cx="533160" cy="4647960"/>
          </a:xfrm>
          <a:custGeom>
            <a:avLst/>
            <a:gdLst>
              <a:gd name="textAreaLeft" fmla="*/ 0 w 533160"/>
              <a:gd name="textAreaRight" fmla="*/ 192600 w 533160"/>
              <a:gd name="textAreaTop" fmla="*/ 120960 h 4647960"/>
              <a:gd name="textAreaBottom" fmla="*/ 4527000 h 46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5029200"/>
            <a:ext cx="2743200" cy="1371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40-50 = 1 deci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th 10 centimet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sid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422800">
            <a:off x="990720" y="0"/>
            <a:ext cx="533160" cy="2651040"/>
          </a:xfrm>
          <a:custGeom>
            <a:avLst/>
            <a:gdLst>
              <a:gd name="textAreaLeft" fmla="*/ 0 w 533160"/>
              <a:gd name="textAreaRight" fmla="*/ 192600 w 533160"/>
              <a:gd name="textAreaTop" fmla="*/ 69120 h 2651040"/>
              <a:gd name="textAreaBottom" fmla="*/ 2581920 h 265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1523880"/>
            <a:ext cx="266724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ere is one 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tick shrunken dow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 Black"/>
              </a:rPr>
              <a:t>Where is the air most dense? Closer or Farther from the surface??</a:t>
            </a: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43600" cy="572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-685800" y="0"/>
            <a:ext cx="10058400" cy="68565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990720" y="914400"/>
            <a:ext cx="769608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Where is the population the most dense? East or West Coast?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The least dense?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ast or West Coast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-380880" y="1981080"/>
            <a:ext cx="4343400" cy="4191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2133720"/>
            <a:ext cx="4343400" cy="4190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olume by displacement is when we _____ an object to find it’s volum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s the ____of an object to its _____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nsity = mass divided by 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units of density are in either g/cm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r _____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density of ____ is equal to 1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7772400" cy="4269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6934320" y="2286000"/>
            <a:ext cx="205740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86600" y="228600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/m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opic: Science Basic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Objectives: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Day 3 of 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understand the difference between an element and a molecu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know how different forms of energy and they are transferr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know the different layers of the ear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95280" y="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Unit:  Metrics and Densit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Quickwrit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1-2 sentences answer one of the questions below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es hot air rise or sink???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en you get X-Rays at the Doctor’s office, why do you think they put a lead blanket over you???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lement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atter, that is everything on earth and beyond is made of substances called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men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is a substance that cannot be broken down into simpler substances by physical or chemical mean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usually combine with other elements to form compound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1905120" y="4114800"/>
            <a:ext cx="54864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lement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1143000"/>
            <a:ext cx="3772080" cy="264168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5"/>
          <a:stretch/>
        </p:blipFill>
        <p:spPr>
          <a:xfrm rot="17811000">
            <a:off x="4959360" y="3890520"/>
            <a:ext cx="1816200" cy="31428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6"/>
          <a:stretch/>
        </p:blipFill>
        <p:spPr>
          <a:xfrm>
            <a:off x="1066680" y="1371600"/>
            <a:ext cx="3438720" cy="458136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7"/>
          <a:stretch/>
        </p:blipFill>
        <p:spPr>
          <a:xfrm rot="10331400">
            <a:off x="3736080" y="2961720"/>
            <a:ext cx="2806920" cy="31428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066680" y="1371600"/>
            <a:ext cx="13716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iamon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ure Carbon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1143000"/>
            <a:ext cx="13716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ol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u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6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ompound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16" name=""/>
          <p:cNvSpPr/>
          <p:nvPr/>
        </p:nvSpPr>
        <p:spPr>
          <a:xfrm>
            <a:off x="838080" y="1371600"/>
            <a:ext cx="5105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en two or more elements bond with each other, we call it a comp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ater is a compound that forms between two elements– Hydrogen and oxyg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lt is a compound that forms between Sodium and Chlor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5943600" y="990720"/>
            <a:ext cx="3048120" cy="20113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ompound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1523880" y="1295280"/>
            <a:ext cx="4419720" cy="29163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609480" y="2286000"/>
            <a:ext cx="1219320" cy="30960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5"/>
          <a:stretch/>
        </p:blipFill>
        <p:spPr>
          <a:xfrm rot="11478600">
            <a:off x="5476680" y="2594880"/>
            <a:ext cx="2057400" cy="29988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6"/>
          <a:stretch/>
        </p:blipFill>
        <p:spPr>
          <a:xfrm>
            <a:off x="2514600" y="205740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7"/>
          <a:stretch/>
        </p:blipFill>
        <p:spPr>
          <a:xfrm>
            <a:off x="609480" y="3352680"/>
            <a:ext cx="2210040" cy="30960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8"/>
          <a:stretch/>
        </p:blipFill>
        <p:spPr>
          <a:xfrm rot="10800000">
            <a:off x="5181480" y="3352680"/>
            <a:ext cx="2743200" cy="3002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1523880" y="1295280"/>
            <a:ext cx="129564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590920" y="4267080"/>
            <a:ext cx="129528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aC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1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5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9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3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7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1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5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is the difference between an Element and a Compound?</a:t>
            </a:r>
            <a:endParaRPr b="0" lang="en-US" sz="32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6782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ements are the ____substances that cannot be broken dow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en two or more elements bond with each other, we call it a_____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3733920"/>
            <a:ext cx="3504960" cy="24019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228600" y="5791320"/>
            <a:ext cx="350532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e2a00"/>
                </a:solidFill>
                <a:latin typeface="Arial"/>
              </a:rPr>
              <a:t>Elemen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676440" cy="61452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5"/>
          <a:stretch/>
        </p:blipFill>
        <p:spPr>
          <a:xfrm>
            <a:off x="1143000" y="1143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6"/>
          <a:stretch/>
        </p:blipFill>
        <p:spPr>
          <a:xfrm>
            <a:off x="3962520" y="3581280"/>
            <a:ext cx="3581280" cy="291636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3962520" y="5791320"/>
            <a:ext cx="358128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e2a00"/>
                </a:solidFill>
                <a:latin typeface="Arial"/>
              </a:rPr>
              <a:t>Compound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20120" y="2209680"/>
            <a:ext cx="144756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77240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What is the Metric System?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measurement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yste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based on units or powers of 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133720"/>
            <a:ext cx="2057400" cy="297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228600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He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Hea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the energy that moves from an object with a higher temperature to an object with a lower temperat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en an object has no heat, this object is 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col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What is Heat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energy that ___ from an object with a higher temperature to an object with a lower temperat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2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104472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7010280" y="2819520"/>
            <a:ext cx="1447920" cy="259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162920" y="2819520"/>
            <a:ext cx="11509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769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onvection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4267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nvection is the transfer of heat by the flow of a heated mater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nly occurs with gases and liqui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762120" y="38095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en gases and liquids are warmed, their molecules move apart, increasing its volume and decreasing its density, causing it to ris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ntually, gas or liquid will start to cool, causing it to fall back down and the cycle repeats itself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50" name="" descr="An animation depicting convection current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Conduction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86200" y="11426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surface of the earth absorbs radiation, causing the molecules to rub into one another – Condu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nduction is the transfer of energy that occurs when molecules bump into one anot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3962520" cy="350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581280" y="1219320"/>
            <a:ext cx="586764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onduction and Heat Transf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 rot="1048200">
            <a:off x="4647960" y="1752480"/>
            <a:ext cx="3886200" cy="372744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4724280" y="3429000"/>
            <a:ext cx="2438640" cy="558720"/>
          </a:xfrm>
          <a:custGeom>
            <a:avLst/>
            <a:gdLst/>
            <a:ahLst/>
            <a:rect l="l" t="t" r="r" b="b"/>
            <a:pathLst>
              <a:path w="1448" h="352">
                <a:moveTo>
                  <a:pt x="1448" y="96"/>
                </a:moveTo>
                <a:cubicBezTo>
                  <a:pt x="732" y="224"/>
                  <a:pt x="16" y="352"/>
                  <a:pt x="8" y="336"/>
                </a:cubicBezTo>
                <a:cubicBezTo>
                  <a:pt x="0" y="320"/>
                  <a:pt x="1168" y="56"/>
                  <a:pt x="1400" y="0"/>
                </a:cubicBezTo>
              </a:path>
            </a:pathLst>
          </a:custGeom>
          <a:solidFill>
            <a:srgbClr val="ff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3581280" y="358128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 rot="21021600">
            <a:off x="3962520" y="2590560"/>
            <a:ext cx="2438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 Flow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724280" y="3047760"/>
            <a:ext cx="221004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85800" y="1371600"/>
            <a:ext cx="29718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nduction is the transfer of heat that occurs when molecules bump into one anot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Black"/>
              </a:rPr>
              <a:t>What’s the difference between Convection and Conduction?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429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nduction is the transfer of energy that occurs when molecules ___ into one anoth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ction is the transfer of heat by the ____ of a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ed mater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4038480" y="1600200"/>
            <a:ext cx="3048120" cy="269388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3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71600" cy="104472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An animation depicting convection current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9880" y="4172040"/>
            <a:ext cx="3581640" cy="26859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7620120" y="2209680"/>
            <a:ext cx="144756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77240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Radiat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171840" y="17521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other way energy is transferred is by radi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nergy transfer through space by electromagnetic waves in the form of visible light, Ultraviolet, X-rays, and gamma wa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4343400" y="2286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6019920" y="228600"/>
            <a:ext cx="163836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4" name="ShockwaveFlash1"/>
          <p:cNvGraphicFramePr/>
          <p:nvPr/>
        </p:nvGraphicFramePr>
        <p:xfrm>
          <a:off x="533520" y="1219320"/>
          <a:ext cx="5333760" cy="548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5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1219320"/>
                    <a:ext cx="5333760" cy="5486400"/>
                  </a:xfrm>
                  <a:prstGeom prst="rect">
                    <a:avLst/>
                  </a:prstGeom>
                  <a:ln w="936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Radiation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ergy transfer through space by in the form of 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: visible light, Ultraviolet, X-rays, and gamma wav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7391520" y="2209680"/>
            <a:ext cx="144756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-228600" y="-152280"/>
            <a:ext cx="1676520" cy="701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1447920" y="0"/>
            <a:ext cx="7696080" cy="686916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Earth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5" name=""/>
          <p:cNvSpPr/>
          <p:nvPr/>
        </p:nvSpPr>
        <p:spPr>
          <a:xfrm>
            <a:off x="3200400" y="2590920"/>
            <a:ext cx="1371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qui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on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905120" y="1981080"/>
            <a:ext cx="1447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olten rock)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219320" y="1143000"/>
            <a:ext cx="1447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hin rocky outer layer)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1066320" y="4419720"/>
            <a:ext cx="38124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739880" y="152280"/>
            <a:ext cx="3568680" cy="6453360"/>
          </a:xfrm>
          <a:custGeom>
            <a:avLst/>
            <a:gdLst/>
            <a:ahLst/>
            <a:rect l="l" t="t" r="r" b="b"/>
            <a:pathLst>
              <a:path w="2248" h="4065">
                <a:moveTo>
                  <a:pt x="2172" y="4063"/>
                </a:moveTo>
                <a:cubicBezTo>
                  <a:pt x="2126" y="4060"/>
                  <a:pt x="2022" y="4065"/>
                  <a:pt x="1896" y="4040"/>
                </a:cubicBezTo>
                <a:cubicBezTo>
                  <a:pt x="1770" y="4015"/>
                  <a:pt x="1550" y="3960"/>
                  <a:pt x="1414" y="3912"/>
                </a:cubicBezTo>
                <a:cubicBezTo>
                  <a:pt x="1278" y="3864"/>
                  <a:pt x="1192" y="3819"/>
                  <a:pt x="1080" y="3752"/>
                </a:cubicBezTo>
                <a:cubicBezTo>
                  <a:pt x="968" y="3685"/>
                  <a:pt x="840" y="3592"/>
                  <a:pt x="744" y="3512"/>
                </a:cubicBezTo>
                <a:cubicBezTo>
                  <a:pt x="648" y="3432"/>
                  <a:pt x="579" y="3360"/>
                  <a:pt x="504" y="3272"/>
                </a:cubicBezTo>
                <a:cubicBezTo>
                  <a:pt x="429" y="3184"/>
                  <a:pt x="350" y="3078"/>
                  <a:pt x="292" y="2984"/>
                </a:cubicBezTo>
                <a:cubicBezTo>
                  <a:pt x="234" y="2890"/>
                  <a:pt x="196" y="2824"/>
                  <a:pt x="153" y="2705"/>
                </a:cubicBezTo>
                <a:cubicBezTo>
                  <a:pt x="110" y="2586"/>
                  <a:pt x="54" y="2418"/>
                  <a:pt x="32" y="2269"/>
                </a:cubicBezTo>
                <a:cubicBezTo>
                  <a:pt x="10" y="2120"/>
                  <a:pt x="0" y="1960"/>
                  <a:pt x="20" y="1808"/>
                </a:cubicBezTo>
                <a:cubicBezTo>
                  <a:pt x="40" y="1656"/>
                  <a:pt x="100" y="1492"/>
                  <a:pt x="153" y="1359"/>
                </a:cubicBezTo>
                <a:cubicBezTo>
                  <a:pt x="206" y="1226"/>
                  <a:pt x="267" y="1120"/>
                  <a:pt x="341" y="1007"/>
                </a:cubicBezTo>
                <a:cubicBezTo>
                  <a:pt x="415" y="894"/>
                  <a:pt x="501" y="782"/>
                  <a:pt x="600" y="680"/>
                </a:cubicBezTo>
                <a:cubicBezTo>
                  <a:pt x="699" y="578"/>
                  <a:pt x="825" y="469"/>
                  <a:pt x="936" y="392"/>
                </a:cubicBezTo>
                <a:cubicBezTo>
                  <a:pt x="1047" y="315"/>
                  <a:pt x="1151" y="267"/>
                  <a:pt x="1269" y="219"/>
                </a:cubicBezTo>
                <a:cubicBezTo>
                  <a:pt x="1387" y="171"/>
                  <a:pt x="1549" y="131"/>
                  <a:pt x="1645" y="104"/>
                </a:cubicBezTo>
                <a:cubicBezTo>
                  <a:pt x="1741" y="77"/>
                  <a:pt x="1758" y="72"/>
                  <a:pt x="1848" y="56"/>
                </a:cubicBezTo>
                <a:cubicBezTo>
                  <a:pt x="1938" y="40"/>
                  <a:pt x="2120" y="16"/>
                  <a:pt x="2184" y="8"/>
                </a:cubicBezTo>
                <a:cubicBezTo>
                  <a:pt x="2248" y="0"/>
                  <a:pt x="2224" y="8"/>
                  <a:pt x="2232" y="8"/>
                </a:cubicBezTo>
              </a:path>
            </a:pathLst>
          </a:custGeom>
          <a:noFill/>
          <a:ln w="117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52280" y="57913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hosph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se layer made up of the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ust and upper mantle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18974400">
            <a:off x="2371320" y="5208120"/>
            <a:ext cx="3808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209680" y="56386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495680" y="2971800"/>
            <a:ext cx="99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i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4000"/>
                            </p:stCondLst>
                            <p:childTnLst>
                              <p:par>
                                <p:cTn id="7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6000"/>
                            </p:stCondLst>
                            <p:childTnLst>
                              <p:par>
                                <p:cTn id="7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3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 Black"/>
              </a:rPr>
              <a:t>What are the layers of the earth?</a:t>
            </a:r>
            <a:endParaRPr b="0" lang="en-US" sz="32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Inner cor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lid ir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Outer cor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–____ ir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Mantl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- molten r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Crus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– thin rocky outer lay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Lithospher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nse part made up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f the ____ and outer mant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543800" y="2209680"/>
            <a:ext cx="144792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69608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7772400" cy="42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3832560" y="921600"/>
            <a:ext cx="4765320" cy="4867200"/>
            <a:chOff x="3832560" y="921600"/>
            <a:chExt cx="4765320" cy="4867200"/>
          </a:xfrm>
        </p:grpSpPr>
        <p:sp>
          <p:nvSpPr>
            <p:cNvPr id="110" name=""/>
            <p:cNvSpPr/>
            <p:nvPr/>
          </p:nvSpPr>
          <p:spPr>
            <a:xfrm>
              <a:off x="3848040" y="921600"/>
              <a:ext cx="4749840" cy="701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325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034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739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448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153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862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567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276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981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690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32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75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18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61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03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46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89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32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74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17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60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03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45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88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31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74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17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60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2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45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88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31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73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16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59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02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45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88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30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73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16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59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02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44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87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0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73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5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58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01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44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7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29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2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5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58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01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438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86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29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72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148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7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00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43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86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29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14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57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00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42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85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28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71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14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56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99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42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85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28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70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13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56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99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1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84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27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70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13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55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98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41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84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27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70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12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5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8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41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83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26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69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12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55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98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40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3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26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69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18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154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97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40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83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25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368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11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54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497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48040" y="5018040"/>
              <a:ext cx="4749840" cy="770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914400" y="762120"/>
            <a:ext cx="2933640" cy="1371600"/>
          </a:xfrm>
          <a:prstGeom prst="rightArrowCallout">
            <a:avLst>
              <a:gd name="adj1" fmla="val 27086"/>
              <a:gd name="adj2" fmla="val 25000"/>
              <a:gd name="adj3" fmla="val 29280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1 me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member 1 meter is much larger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2133720"/>
            <a:ext cx="2933640" cy="1143000"/>
          </a:xfrm>
          <a:prstGeom prst="rightArrowCallout">
            <a:avLst>
              <a:gd name="adj1" fmla="val 27086"/>
              <a:gd name="adj2" fmla="val 23611"/>
              <a:gd name="adj3" fmla="val 35136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 =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dec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3276720"/>
            <a:ext cx="2933640" cy="1447560"/>
          </a:xfrm>
          <a:prstGeom prst="rightArrowCallout">
            <a:avLst>
              <a:gd name="adj1" fmla="val 19891"/>
              <a:gd name="adj2" fmla="val 20074"/>
              <a:gd name="adj3" fmla="val 27688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 =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cent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4572000"/>
            <a:ext cx="2933640" cy="1447920"/>
          </a:xfrm>
          <a:prstGeom prst="rightArrowCallout">
            <a:avLst>
              <a:gd name="adj1" fmla="val 19891"/>
              <a:gd name="adj2" fmla="val 20074"/>
              <a:gd name="adj3" fmla="val 27681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 =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mill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ivide by powers of 10!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ummariz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6172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simplest substances on earth are called 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ments combine with other elements to form 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__ is the transfer of heat by the flow of a mater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raw and labe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1371600" y="838080"/>
            <a:ext cx="7772400" cy="42732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4800600" y="3657600"/>
            <a:ext cx="4343400" cy="308124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7543800" y="1295280"/>
            <a:ext cx="1447920" cy="221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696080" y="1295280"/>
            <a:ext cx="115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 Black"/>
              </a:rPr>
              <a:t>Basic Units of the </a:t>
            </a:r>
            <a:br>
              <a:rPr sz="3200"/>
            </a:br>
            <a:r>
              <a:rPr b="0" lang="en-US" sz="3200" spc="-1" strike="noStrike">
                <a:solidFill>
                  <a:srgbClr val="dfd293"/>
                </a:solidFill>
                <a:latin typeface="Arial Black"/>
              </a:rPr>
              <a:t>Metric System</a:t>
            </a:r>
            <a:endParaRPr b="0" lang="en-US" sz="32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mass or weigh something we use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measure distance or length, we use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ment of how much space an object takes up and is measured by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Met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er is used to measure length and dist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ilometer is a 1000 meters and is similar in length to the mi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0481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4:05:52Z</dcterms:created>
  <dc:creator>MGJ</dc:creator>
  <dc:description/>
  <dc:language>en-US</dc:language>
  <cp:lastModifiedBy>jfuller</cp:lastModifiedBy>
  <dcterms:modified xsi:type="dcterms:W3CDTF">2012-01-11T18:32:10Z</dcterms:modified>
  <cp:revision>107</cp:revision>
  <dc:subject/>
  <dc:title>The Metric System</dc:title>
</cp:coreProperties>
</file>